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BE4-3DA4-4CFF-A171-82FCA09E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F23-B145-4770-B7DF-43DA3423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155-B68B-4441-9EB5-0182380A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295-F2A1-4E5B-A81F-10FA3F47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AFB0-90D0-47D3-B700-551BC87D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3E4E-5138-4CD8-9017-439034BE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6109-D82E-4F5C-9EBD-43CCAEAA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2FB9-1AE9-4783-A567-58DFAF41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23AB-BE60-4855-AE65-06D63B0C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008B-1467-4725-B5D1-3AD80861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490D-FFBC-4C9B-99CA-2D3926DA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8F9-F23D-4780-877F-093A9BDE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8393-F392-4EDB-A4CC-4F2322C8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CEC2-C539-43F6-BB3C-CB7E0C4E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9DBB-019B-4FF0-966A-3B346C20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B60B-CE92-49BC-8475-577E66F1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9CD6-EC17-421B-AA08-A0952645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AEA-1D7D-43E4-B493-EADE3B92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1A4-407C-424F-AE0D-93257A30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AC5-0256-4948-A38C-522E98D3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642-5F7E-47A2-BA5F-D6139846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B79-9A6A-47C9-8A43-01476B9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2A4-C8DD-4A85-B060-11EEED74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4E0-D402-4FCA-9756-214FC6E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D38B-09BE-4262-843B-3C3028C2485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881C-1F46-4211-B9F6-61C7C6B80EE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5867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ues, Questions, and 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dvance Organiz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837720" y="1752480"/>
            <a:ext cx="6629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nhance students’ ability to retrieve, use and organize what they already know about a topic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Focus on what is important and higher level question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Wait time increases depth of answ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Advanced organizers are most useful with information that is not well organiz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49080" y="4781520"/>
            <a:ext cx="1239480" cy="1764360"/>
            <a:chOff x="6049080" y="4781520"/>
            <a:chExt cx="1239480" cy="1764360"/>
          </a:xfrm>
        </p:grpSpPr>
        <p:sp>
          <p:nvSpPr>
            <p:cNvPr id="195" name="_s2060"/>
            <p:cNvSpPr/>
            <p:nvPr/>
          </p:nvSpPr>
          <p:spPr>
            <a:xfrm flipH="1">
              <a:off x="6370560" y="6002280"/>
              <a:ext cx="148320" cy="136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_s2059"/>
            <p:cNvSpPr/>
            <p:nvPr/>
          </p:nvSpPr>
          <p:spPr>
            <a:xfrm>
              <a:off x="6049080" y="6003000"/>
              <a:ext cx="344520" cy="542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_s2058"/>
            <p:cNvSpPr/>
            <p:nvPr/>
          </p:nvSpPr>
          <p:spPr>
            <a:xfrm>
              <a:off x="6818040" y="6003000"/>
              <a:ext cx="149040" cy="1350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_s2057"/>
            <p:cNvSpPr/>
            <p:nvPr/>
          </p:nvSpPr>
          <p:spPr>
            <a:xfrm>
              <a:off x="6944040" y="6002280"/>
              <a:ext cx="344520" cy="542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_s2056"/>
            <p:cNvSpPr/>
            <p:nvPr/>
          </p:nvSpPr>
          <p:spPr>
            <a:xfrm flipV="1">
              <a:off x="6669000" y="5324400"/>
              <a:ext cx="0" cy="27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_s2055"/>
            <p:cNvSpPr/>
            <p:nvPr/>
          </p:nvSpPr>
          <p:spPr>
            <a:xfrm>
              <a:off x="6496560" y="4781520"/>
              <a:ext cx="344520" cy="542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6496560" y="5595840"/>
              <a:ext cx="344520" cy="542880"/>
            </a:xfrm>
            <a:prstGeom prst="ellipse">
              <a:avLst/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26:04Z</dcterms:created>
  <dc:creator>workstation</dc:creator>
  <dc:description/>
  <dc:language>en-US</dc:language>
  <cp:lastModifiedBy>workstation</cp:lastModifiedBy>
  <dcterms:modified xsi:type="dcterms:W3CDTF">2010-08-03T14:36:11Z</dcterms:modified>
  <cp:revision>2</cp:revision>
  <dc:subject/>
  <dc:title>Cues, Questions, and  Advance Organizers</dc:title>
</cp:coreProperties>
</file>